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10C-56C1-4235-9415-A4589AC4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795-DC93-48E7-AC94-9C6BE366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CA8-4EA4-4E10-A25E-34EE1185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CF7-8EB0-481C-9D2F-E2688838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4B93-0B95-44F3-9DD0-233DA614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936A-B8F5-4F34-A393-CF8A54B4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7C1C-7E83-498E-ABF4-CE6BC920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E49D-C24A-41CE-AD30-045E7BA0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4F4C-5B09-4520-A080-E390E4F8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CD43-EC2C-46EF-AC73-9291D427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80CF-9240-46C5-8D13-DF82CC9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B25-2C04-4A03-8546-B2A8E902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5930-12DB-4640-988F-D2AF622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2C53-E463-44BD-859E-0EBA9083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8E12-99C5-46C2-8745-8D709066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2C2A-10AF-4BDE-AD66-1D036ABC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1BCE-8635-459B-AB65-1AC940B3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DD4-9556-411E-81D2-2ACE518E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C60-E475-418C-98E5-F679D1ED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0C3-2732-42AF-956C-B3615F98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AFA-C0FA-4B55-BFC6-05E0D20D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225-99E2-49F1-A538-958D978D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C9F-A03A-4271-BE8D-C239052F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5B9-4860-4F19-A4F8-AC58385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FACA-5061-4532-BB60-2868E963B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517-06FC-4CFF-AB64-6A381406B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870280"/>
            <a:ext cx="62532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 In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orking Defini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finition: Institution through which the state maintains social order, provides public services, and enforces decisions that are binding on all people living within the st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 minute: Write a working definition that you can use and rememb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3 minutes: Share with a partner and discuss what you liked and didn’t lik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 minute: Making any desired revisions to your working defin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finition: Effort to control or influence the conduct and policies of government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 minute: Write a working definition that you can use and rememb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3 minutes: Share with a partner and discuss what you liked and didn’t lik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 minute: Making any desired revisions to your working defin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finition: Action the government chooses to take or not tak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 minute: Write a working definition that you can use and rememb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 minutes: Share with a partner and discuss what you liked and didn’t lik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 minute: Making any desired revisions to your working defini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7:03:26Z</dcterms:created>
  <dc:creator>L-Net</dc:creator>
  <dc:description/>
  <dc:language>en-US</dc:language>
  <cp:lastModifiedBy>L-Net</cp:lastModifiedBy>
  <dcterms:modified xsi:type="dcterms:W3CDTF">2011-02-08T18:39:33Z</dcterms:modified>
  <cp:revision>5</cp:revision>
  <dc:subject/>
  <dc:title>Government Intro</dc:title>
</cp:coreProperties>
</file>